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jpeg" ContentType="image/jpeg"/>
  <Override PartName="/ppt/media/image21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5AD-12B6-4FEF-992A-D8E411B1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66D-5094-474C-8F63-3D91B41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2AD-EDFE-4490-9307-F0C4485A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6B5-2F7A-4B0E-B4C8-36E6B20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C86-69C4-4A32-BF0E-0A0BC745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4F2-4DA1-4D94-9DB9-1726814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97EE-DADB-4023-AE95-4CCE7B4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E54C-0A89-4F25-A1FA-28FE2C4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A573-ACBF-4309-BE50-FDA2829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70E-BE0F-4439-BAEC-EF4566A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BBA-7210-475C-BBAB-10077A2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F7E-7E0E-431B-BA9B-D8890BC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76D5-FF95-4C99-8543-F1661DB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5D71-7CA0-47C7-8C05-EB59550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75E2-A26E-408E-BE46-654D7254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035-F1B7-401E-ABF8-6E0034CF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5381-D15B-4C88-AD45-608B769E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2E73-676E-43B5-9172-75BFBDBF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B505-5F74-4822-98E3-00533CB4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B02D-AD6B-4FB6-9422-607FCFB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9342-2FF8-4894-89CE-7D50BC45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405F-63F3-40CA-88D9-ECE5766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71A-8EAF-4439-8D65-6ACB18B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5FC5-1F98-4ACD-8317-73B600F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12DE-543E-4288-A890-B4394A5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FAF3-2F3A-4CBE-BAFE-0481558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754B-64D7-41DB-BCEC-0F1E89E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CF8A-F99A-4221-B562-9E2A7CEF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6421-2301-4C67-80AB-3C702060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394D-4FC1-4AE7-94F9-BAB16877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FCA-39AD-4A94-8F11-4BDFAB08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0C7-FFA7-417C-A543-52D37EB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4BD-10B7-4CB6-A974-B1EC8FA5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8BA-DF25-4729-BF32-E3450C1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DD3-A66C-4F53-894F-1337F6C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8E2-CD1C-4CE1-A1BF-A30B480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487A-ED61-421B-A176-3E921EF9B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0A88-07A8-4818-AC42-FC1C004755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E78-32D9-4A50-817A-3F41A7007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785000" cy="148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47920" y="579132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By Luis A Ramirez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de in cooperation with Liger in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http://www.genistra.com/wp-content/uploads/2009/09/Chinese-Zodiac.gif"/>
          <p:cNvPicPr/>
          <p:nvPr/>
        </p:nvPicPr>
        <p:blipFill>
          <a:blip r:embed="rId2"/>
          <a:stretch/>
        </p:blipFill>
        <p:spPr>
          <a:xfrm>
            <a:off x="1676520" y="1143000"/>
            <a:ext cx="528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fmalany.comuf.com/CIS2281/ChineseZodiac/images/Zodiac_Lg/ho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eople born in the year of the horse are popular (I didn’t know a whole age group could be popu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y are good with their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re also suckers for the opposite gen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y are also very independent and don’t listen to ad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fmalany.comuf.com/CIS2281/ChineseZodiac/images/Zodiac_Lg/ra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ople born sheep are said to be elegant and talented in the 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t first they seem better then most of the other zodiac animals but sheep can be shy, puzzled by life and highly pessimi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Yet sheep never really have to worry about how to make money because there abilities make money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fmalany.comuf.com/CIS2281/ChineseZodiac/images/Zodiac_Lg/monk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ever, skillful and, inventive monkeys are geniuses at he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onkey people are original and can solve the most difficult problem with 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onkey people want to do things immediately if they don’t they get discouraged and leave their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fmalany.comuf.com/CIS2281/ChineseZodiac/images/Zodiac_Lg/rooster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60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People of the year of the rooster are deep thinkers, capable and tale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 like to be busy and are devoted beyond their cap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f they fail at anything they try or it doesn’t go as best as they wanted they very dissapoi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fmalany.comuf.com/CIS2281/ChineseZodiac/images/Zodiac_Lg/dog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63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People born the year of the dog have the best traits of the human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They have a deep sense of loyalty and inspire confidence because they can keep secr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But dog people can be slightly selfish and are extremely stubbo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fmalany.comuf.com/CIS2281/ChineseZodiac/images/Zodiac_Lg/p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People of the year of the pig are gallant and chival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Whatever they do they will do it with all their strength and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They have tremendous fortitude and great hone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Pigs don’t make many friends but the ones they do are for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itle 1" descr=""/>
          <p:cNvPicPr/>
          <p:nvPr/>
        </p:nvPicPr>
        <p:blipFill>
          <a:blip r:embed="rId2"/>
          <a:stretch/>
        </p:blipFill>
        <p:spPr>
          <a:xfrm>
            <a:off x="378000" y="-6480"/>
            <a:ext cx="8235720" cy="11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re are 12 signs in the Chinese Zodi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Every year it rotates to the next animal if the year was the year of the horse it goes to the year of the sh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  order starts with the rat then moves on to the ox then to the tiger so on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i-chinastyle.com/wp-content/uploads/2010/03/chinese_zodia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Like the Western Zodiac It has twelve Parts except instead of changing every month they change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It is a stereotype that this zodiac is solely used in China it is used throughout most of the eastern Asi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There is also more to the Zodiac then a yearly cycle there is a monthly, daily and, hourly cycle. (a lot more complicated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fmalany.comuf.com/CIS2281/ChineseZodiac/images/Zodiac_Lg/r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 Rat is the first sign in the zodia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Rats are known for there cha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y  are kind of perfectionis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y are also gossipers so they s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fmalany.comuf.com/CIS2281/ChineseZodiac/images/Zodiac_Lg/ox.jpg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ople born in 1997 and 12 years before, 12 years after are all the ox. It could also keep going if we survive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x’s are patient ,speak little and inspire conf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 are a little stubbo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 also hate to fail and to be opp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fmalany.comuf.com/CIS2281/ChineseZodiac/images/Zodiac_Lg/tig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iger people are sensitive, deep thinkers and capable of great sympa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eople have great respect for tiger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However tigers are extremely short temp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iger’s can come into conflict with there elders or the autho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fmalany.comuf.com/CIS2281/ChineseZodiac/images/Zodiac_Lg/rabb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bbit people are articulate, talented and ,ambiti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y are virtuous, reserved and, have excellent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y would also make good gamblers because they have the uncanny talent to pick the right thing yet they don’t because they are conservative and w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://fmalany.comuf.com/CIS2281/ChineseZodiac/images/Zodiac_Lg/drag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People born the year of the dragon are healthy, energetic and, short temp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ey are also honest, brave and inspire tr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ey also never borrow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fmalany.comuf.com/CIS2281/ChineseZodiac/images/Zodiac_Lg/sn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48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nake people are d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say little and are very w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are also vain and a bit stin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nakes are also said to be financially lu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(like Donald trum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6:03:28Z</dcterms:created>
  <dc:creator>luis ramirez</dc:creator>
  <dc:description/>
  <dc:language>en-US</dc:language>
  <cp:lastModifiedBy>GRRL Public Internet</cp:lastModifiedBy>
  <dcterms:modified xsi:type="dcterms:W3CDTF">2011-05-24T22:18:21Z</dcterms:modified>
  <cp:revision>30</cp:revision>
  <dc:subject/>
  <dc:title>Chinese Zodiac</dc:title>
</cp:coreProperties>
</file>